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405-3ED0-47C1-A67F-463C305C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D3A-7F4A-46FA-9FAA-604C4B9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F7A-1FB8-45BC-AB15-96B8D012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917-4F28-4045-A823-69B6D388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3FC-DF80-4F2F-A043-CABF94B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79D-B634-4E62-B0EA-C9950F31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74F-93D6-4C35-9112-21BA7E7C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2EF-21C9-48F9-8229-F48DBF98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2AE-6F04-48DE-B2A4-C1FC67F0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FC5-63C8-4728-81DB-05396FC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5E3-03E8-4644-8261-ACA8A58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8C0-78EC-4E90-8628-3689F7B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B3A8-7CDF-4EAF-BB24-64967134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, Inc., a subsidiary of DeVry Inc. (NYSE:D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office in OKC (Bricktow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evenue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00 per-stu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verag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urses 88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in courses 74% (6,5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ctive 62% (5,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udents 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courses 2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that are active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active courses on track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completed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 2.00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E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OI (End of Instruction)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igh school diploma will be the same as tradi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year book picture, attend prom, walk at graduation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58:34Z</dcterms:created>
  <dc:creator>Andre Washington</dc:creator>
  <dc:description/>
  <dc:language>en-US</dc:language>
  <cp:lastModifiedBy>Andre Washington</cp:lastModifiedBy>
  <dcterms:modified xsi:type="dcterms:W3CDTF">2008-10-18T07:49:31Z</dcterms:modified>
  <cp:revision>6</cp:revision>
  <dc:subject/>
  <dc:title>Slide 1</dc:title>
</cp:coreProperties>
</file>